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B035-A359-4B96-8C57-CF500367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DBC3D-5B21-41F5-9A81-FDD28D9A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561E5-3765-4397-A44C-53CE7B95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5BFC-0FBC-453D-BDAD-35D88933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5DA1-C0C4-41B0-B3B4-A687F7AB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9E8C-EC74-409E-B9C0-808671E6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432C-DCDE-4BB5-9FC9-A23F268B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A21F-0A2B-4CD9-902F-8A9A974E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2828-C035-4EAC-9055-C03838F4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4A50-FF00-4AD1-9622-BB226210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6845-95E7-4E07-A706-CF34C959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698D-44DD-432E-82B6-214E52DB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8766-7140-48FE-AFD1-18EE841E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F2F4-E9CD-4B8E-A69E-B532ACB2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EA21-BD0F-4F48-A165-4DD0A8F9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D592-2814-4E40-B777-2E829DC3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80AE-D516-48E6-A694-DB1A20D1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F7D40-0B55-465E-8C3B-29844F62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02C5E-EBF5-4894-872C-EA0911E2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FFFD4-527F-4CBB-98F5-528790EC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9A818-2522-4362-8497-DFC0765E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CD3FA-E4F2-4F15-B9A3-9D21E914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EF02D-67BC-4618-81EA-2735A8CF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33FEB-06CE-4BF4-B1EA-3CDE2812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9F521-E27A-4FD1-8CFF-FB1EEBEF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A0CBC-CE0D-46DF-8C97-C8B7B230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23BFA-F842-4D46-B2B0-257B6941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4A729-563A-47D0-B49C-0B172D9E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DEE0C-E285-42CF-B377-5E826841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F22B-3AC7-4F3A-ADEC-55E14329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F0CE8-8E1A-458B-89C3-9ED06CA7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981C0-ECDE-4DB3-B51E-394E377C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9C3F3-D70C-4D49-A756-E8D22924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1CF07-9654-4785-84E4-DC101CC9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FCA2D-1FD1-498E-B3F1-3ECEE40C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1F107-7A75-4D18-B68E-11539544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BB948-1DD8-447E-B11F-BE8BE729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6B45E-E7E2-4245-9268-027D2DE6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9ED8A-A872-4960-A8BD-4B9F16BC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1A87E-6173-4FD1-97AE-974A35BD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9C637-9BF2-454A-BDF4-134EAFD7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B1C0C-4600-4576-A9A5-70C8CEBE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F7D61-E016-4C8F-AA23-96C4206C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0AC54-2F83-45AB-8DC7-761C5EA4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5DE41-5E12-493C-9F10-A38FB09C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27D2-1197-4065-A657-983F7B00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61FA6-28E9-4F30-AFC7-77BF72DB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6A832-A742-4D90-90DF-ECC3D0C1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6D54-0A68-4635-85C1-B5843F736D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969C-9534-456A-91BA-F9533CA8FB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488C-B5C8-4FCA-9E9A-8220FC26071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7B1B-C4A4-4EE8-8FA5-81154AC1B08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549360"/>
            <a:ext cx="806436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ANIZACIÓN E IMPLEMENTACIÓ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L INVENTARIO ÚNICO DOCUMENT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A EL ARCHIVO DE GESTIÓ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L INSTITUTO DEL DEPORT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LA RECREACIÓN EN YARUM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"INDERYAL" 2003 a 200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587700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Garamond"/>
              </a:rPr>
              <a:t>Carlos Alberto Vásquez M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630864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Asesora: Maribel Pedra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580000" y="4508640"/>
            <a:ext cx="2952720" cy="2163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987640" y="3068640"/>
            <a:ext cx="2952720" cy="2163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539640" y="1989000"/>
            <a:ext cx="2951280" cy="21434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3276720" y="404640"/>
            <a:ext cx="554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"EL EDIFICIO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cc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1258920" y="1413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ituto para el Deporte y la Recreación de Yarumal “INDERYAL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250920" y="5516640"/>
            <a:ext cx="9381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187280" y="476280"/>
            <a:ext cx="6050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CHIVO ANTE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4" name="Picture 7" descr="DSC00167"/>
          <p:cNvPicPr/>
          <p:nvPr/>
        </p:nvPicPr>
        <p:blipFill>
          <a:blip r:embed="rId1"/>
          <a:stretch/>
        </p:blipFill>
        <p:spPr>
          <a:xfrm>
            <a:off x="324000" y="1484280"/>
            <a:ext cx="2050920" cy="1657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DSC00171"/>
          <p:cNvPicPr/>
          <p:nvPr/>
        </p:nvPicPr>
        <p:blipFill>
          <a:blip r:embed="rId2"/>
          <a:stretch/>
        </p:blipFill>
        <p:spPr>
          <a:xfrm>
            <a:off x="2411280" y="1484280"/>
            <a:ext cx="2087640" cy="1657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DSC00170"/>
          <p:cNvPicPr/>
          <p:nvPr/>
        </p:nvPicPr>
        <p:blipFill>
          <a:blip r:embed="rId3"/>
          <a:stretch/>
        </p:blipFill>
        <p:spPr>
          <a:xfrm>
            <a:off x="4572000" y="1484280"/>
            <a:ext cx="2016000" cy="1657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DSC00172"/>
          <p:cNvPicPr/>
          <p:nvPr/>
        </p:nvPicPr>
        <p:blipFill>
          <a:blip r:embed="rId4"/>
          <a:stretch/>
        </p:blipFill>
        <p:spPr>
          <a:xfrm>
            <a:off x="6659640" y="1484280"/>
            <a:ext cx="2016000" cy="1657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DSC00172"/>
          <p:cNvPicPr/>
          <p:nvPr/>
        </p:nvPicPr>
        <p:blipFill>
          <a:blip r:embed="rId5"/>
          <a:stretch/>
        </p:blipFill>
        <p:spPr>
          <a:xfrm>
            <a:off x="1258920" y="3213000"/>
            <a:ext cx="2016000" cy="1657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DSC00172"/>
          <p:cNvPicPr/>
          <p:nvPr/>
        </p:nvPicPr>
        <p:blipFill>
          <a:blip r:embed="rId6"/>
          <a:stretch/>
        </p:blipFill>
        <p:spPr>
          <a:xfrm>
            <a:off x="3348000" y="3213000"/>
            <a:ext cx="2017800" cy="1656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5435640" y="3213000"/>
            <a:ext cx="2089080" cy="165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DSC00169"/>
          <p:cNvPicPr/>
          <p:nvPr/>
        </p:nvPicPr>
        <p:blipFill>
          <a:blip r:embed="rId8"/>
          <a:stretch/>
        </p:blipFill>
        <p:spPr>
          <a:xfrm>
            <a:off x="2268360" y="4941720"/>
            <a:ext cx="2017800" cy="1656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DSC00165"/>
          <p:cNvPicPr/>
          <p:nvPr/>
        </p:nvPicPr>
        <p:blipFill>
          <a:blip r:embed="rId9"/>
          <a:stretch/>
        </p:blipFill>
        <p:spPr>
          <a:xfrm>
            <a:off x="4427640" y="4941720"/>
            <a:ext cx="2089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116000" y="333360"/>
            <a:ext cx="6878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CHIVO EN PROCES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ORGANIZA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4" name="Picture 9" descr="DSC00179"/>
          <p:cNvPicPr/>
          <p:nvPr/>
        </p:nvPicPr>
        <p:blipFill>
          <a:blip r:embed="rId1"/>
          <a:stretch/>
        </p:blipFill>
        <p:spPr>
          <a:xfrm>
            <a:off x="539640" y="2060640"/>
            <a:ext cx="2522520" cy="18921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DSC00178"/>
          <p:cNvPicPr/>
          <p:nvPr/>
        </p:nvPicPr>
        <p:blipFill>
          <a:blip r:embed="rId2"/>
          <a:stretch/>
        </p:blipFill>
        <p:spPr>
          <a:xfrm>
            <a:off x="3132000" y="2060640"/>
            <a:ext cx="2521080" cy="1873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DSC00175"/>
          <p:cNvPicPr/>
          <p:nvPr/>
        </p:nvPicPr>
        <p:blipFill>
          <a:blip r:embed="rId3"/>
          <a:stretch/>
        </p:blipFill>
        <p:spPr>
          <a:xfrm>
            <a:off x="539640" y="4149720"/>
            <a:ext cx="2521080" cy="1868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DSC00180"/>
          <p:cNvPicPr/>
          <p:nvPr/>
        </p:nvPicPr>
        <p:blipFill>
          <a:blip r:embed="rId4"/>
          <a:stretch/>
        </p:blipFill>
        <p:spPr>
          <a:xfrm>
            <a:off x="3132000" y="4149720"/>
            <a:ext cx="2521080" cy="1873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DSC00181"/>
          <p:cNvPicPr/>
          <p:nvPr/>
        </p:nvPicPr>
        <p:blipFill>
          <a:blip r:embed="rId5"/>
          <a:stretch/>
        </p:blipFill>
        <p:spPr>
          <a:xfrm>
            <a:off x="5724360" y="4149720"/>
            <a:ext cx="2737080" cy="1873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5724360" y="2060640"/>
            <a:ext cx="27352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476360" y="476280"/>
            <a:ext cx="54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CHIVO AHORA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2087640" cy="1657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808000" cy="4392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6372360" y="4941720"/>
            <a:ext cx="2192040" cy="16448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900000" y="3284640"/>
            <a:ext cx="2087640" cy="1657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6372360" y="1413000"/>
            <a:ext cx="2087280" cy="16621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tretch/>
        </p:blipFill>
        <p:spPr>
          <a:xfrm>
            <a:off x="6372360" y="3213000"/>
            <a:ext cx="2160360" cy="16606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900000" y="5013360"/>
            <a:ext cx="2087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724360" y="2781360"/>
            <a:ext cx="2664000" cy="1727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76720" y="189000"/>
            <a:ext cx="2160360" cy="13636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3276720" y="2924280"/>
            <a:ext cx="2158920" cy="1296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395280" y="2781360"/>
            <a:ext cx="2664000" cy="1733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395280" y="4581360"/>
            <a:ext cx="2664000" cy="1800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395280" y="907920"/>
            <a:ext cx="2664000" cy="1727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7"/>
          <a:stretch/>
        </p:blipFill>
        <p:spPr>
          <a:xfrm>
            <a:off x="3276720" y="1628640"/>
            <a:ext cx="2158920" cy="12290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8"/>
          <a:stretch/>
        </p:blipFill>
        <p:spPr>
          <a:xfrm>
            <a:off x="5724360" y="981000"/>
            <a:ext cx="2664000" cy="1728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9"/>
          <a:stretch/>
        </p:blipFill>
        <p:spPr>
          <a:xfrm>
            <a:off x="5724360" y="4581360"/>
            <a:ext cx="2664000" cy="18720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0"/>
          <a:stretch/>
        </p:blipFill>
        <p:spPr>
          <a:xfrm>
            <a:off x="3276720" y="4292640"/>
            <a:ext cx="2158920" cy="1224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3276720" y="5589720"/>
            <a:ext cx="21589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2:35:36Z</dcterms:created>
  <dc:creator>User</dc:creator>
  <dc:description/>
  <dc:language>en-US</dc:language>
  <cp:lastModifiedBy>User</cp:lastModifiedBy>
  <dcterms:modified xsi:type="dcterms:W3CDTF">2008-12-02T03:38:30Z</dcterms:modified>
  <cp:revision>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