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D694-43F5-425F-BDE8-1C2BFEC1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3A8A-3055-4A23-9473-71D516A7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2BC54-9EA4-4AF3-A487-AC323BC0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FE8BD-3E11-40CD-A00E-45A00DF1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EBD3-0849-494F-9154-80758B3C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D228-43B3-404A-94EA-FBECA06B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8DEE-CC6D-4912-BFCE-B2EA5CC9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A324-1ECE-4370-B4B9-FD7111F8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9B44-863F-4719-A364-42C3A06D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E763-385E-4C85-8D8E-ED1F8CA9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8A76-55A0-4BF3-8476-2A07BBF1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6620-C66D-4634-8862-56F65729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C08D-5752-4E7A-9B8F-D0662AC9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6B55-3444-4DBA-A1DC-EE59BC35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EA30-13CC-4389-8BEB-B6A5AFBB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D9A8-A024-4BF9-AE36-2BA7CC50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C731-A01C-484E-9C62-BFF783C7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A394-8060-4991-82C3-0220C561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CC7B-01E9-4689-AEAB-C9CE8DF0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50CC-A87D-40C7-A2F6-046BC644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4796-983C-49F0-B1AD-9D9D5958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0DA9-CD9B-49F2-91C8-55D5FDC7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1986-5B9A-462A-AB60-32363483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87CB1-56A0-4A93-B8A7-9909487E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98FA-3BF8-402E-8399-9AE5F299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8CE7E-8091-48F1-8B37-40AE0BF3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D15A9-3B50-484D-B08C-C3A6E713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6084-BC74-4BAA-B4B2-214A327A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C12C-68FB-46DC-801C-60474AB0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E84CF-FE95-4EA1-82A0-3FEA3F11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EBB54-7E67-48BB-BCBA-C04CD752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18BD0-569B-4B4E-9673-50D68428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84005-8A46-4B27-9AD6-46E1448B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7A9E-635D-4C09-B7C6-83E087C5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DD295-1119-4C5E-BDB2-5ADAC7F4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E08A-AEF6-47F8-A838-293B08FB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6397-CD6E-44D2-8D7B-ABDEF88F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2A62-B9CE-4D07-98A0-F3969E8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6EFC7-3A33-4779-A847-D7C8E1D5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56C00-74DB-416C-9CBA-F92EB4A0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C9A4F-2066-4C01-AF7C-561CD9C4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6CFB-4EB2-4A8E-80E1-06397766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E9A9-70E9-4C29-A887-DC9F5699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D613-78A3-436F-9A3B-5053AD71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5063-D97D-464C-839D-AAA04840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20AA-4E9C-4830-8E24-F479FC95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36679-7290-42D4-B0FD-4670C25D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C472-2CB9-4578-84F7-95DEE837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B857-38E8-4443-BFC1-6439856943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83EC-E550-427A-9553-14ACFBBD4D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2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52FA-81AE-41DE-B51E-A3CDB894D3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A02F-585D-449B-B7D8-05ED15A9E3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11280" y="549360"/>
            <a:ext cx="806436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RGANIZACIÓN E IMPLEMENTACIÓ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L INVENTARIO ÚNICO DOCUMEN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RA EL ARCHIVO DE GESTIÓ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L INSTITUTO DEL DEPORT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 LA RECREACIÓN EN YARUM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INDERYAL" 2003 a 200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587700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Garamond"/>
              </a:rPr>
              <a:t>Carlos Alberto Vásquez M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630864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Garamond"/>
              </a:rPr>
              <a:t>Asesora: Maribel Pedra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952720" cy="2163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987640" y="3068640"/>
            <a:ext cx="2952720" cy="2163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2951280" cy="21434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276720" y="404640"/>
            <a:ext cx="554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"EL EDIFICIO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cc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14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tituto para el Deporte y la Recreación de Yarumal “INDERYAL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250920" y="5516640"/>
            <a:ext cx="9381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187280" y="476280"/>
            <a:ext cx="6050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CHIVO ANTE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4" name="Picture 7" descr="DSC00167"/>
          <p:cNvPicPr/>
          <p:nvPr/>
        </p:nvPicPr>
        <p:blipFill>
          <a:blip r:embed="rId1"/>
          <a:stretch/>
        </p:blipFill>
        <p:spPr>
          <a:xfrm>
            <a:off x="324000" y="1484280"/>
            <a:ext cx="2050920" cy="1657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DSC00171"/>
          <p:cNvPicPr/>
          <p:nvPr/>
        </p:nvPicPr>
        <p:blipFill>
          <a:blip r:embed="rId2"/>
          <a:stretch/>
        </p:blipFill>
        <p:spPr>
          <a:xfrm>
            <a:off x="2411280" y="1484280"/>
            <a:ext cx="2087640" cy="1657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DSC00170"/>
          <p:cNvPicPr/>
          <p:nvPr/>
        </p:nvPicPr>
        <p:blipFill>
          <a:blip r:embed="rId3"/>
          <a:stretch/>
        </p:blipFill>
        <p:spPr>
          <a:xfrm>
            <a:off x="4572000" y="1484280"/>
            <a:ext cx="2016000" cy="1657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DSC00172"/>
          <p:cNvPicPr/>
          <p:nvPr/>
        </p:nvPicPr>
        <p:blipFill>
          <a:blip r:embed="rId4"/>
          <a:stretch/>
        </p:blipFill>
        <p:spPr>
          <a:xfrm>
            <a:off x="6659640" y="1484280"/>
            <a:ext cx="2016000" cy="1657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DSC00172"/>
          <p:cNvPicPr/>
          <p:nvPr/>
        </p:nvPicPr>
        <p:blipFill>
          <a:blip r:embed="rId5"/>
          <a:stretch/>
        </p:blipFill>
        <p:spPr>
          <a:xfrm>
            <a:off x="1258920" y="3213000"/>
            <a:ext cx="2016000" cy="1657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DSC00172"/>
          <p:cNvPicPr/>
          <p:nvPr/>
        </p:nvPicPr>
        <p:blipFill>
          <a:blip r:embed="rId6"/>
          <a:stretch/>
        </p:blipFill>
        <p:spPr>
          <a:xfrm>
            <a:off x="3348000" y="3213000"/>
            <a:ext cx="2017800" cy="1656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5435640" y="3213000"/>
            <a:ext cx="2089080" cy="165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DSC00169"/>
          <p:cNvPicPr/>
          <p:nvPr/>
        </p:nvPicPr>
        <p:blipFill>
          <a:blip r:embed="rId8"/>
          <a:stretch/>
        </p:blipFill>
        <p:spPr>
          <a:xfrm>
            <a:off x="2268360" y="4941720"/>
            <a:ext cx="2017800" cy="165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DSC00165"/>
          <p:cNvPicPr/>
          <p:nvPr/>
        </p:nvPicPr>
        <p:blipFill>
          <a:blip r:embed="rId9"/>
          <a:stretch/>
        </p:blipFill>
        <p:spPr>
          <a:xfrm>
            <a:off x="4427640" y="4941720"/>
            <a:ext cx="2089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116000" y="333360"/>
            <a:ext cx="6878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CHIVO EN PROCES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ORGANIZ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4" name="Picture 9" descr="DSC00179"/>
          <p:cNvPicPr/>
          <p:nvPr/>
        </p:nvPicPr>
        <p:blipFill>
          <a:blip r:embed="rId1"/>
          <a:stretch/>
        </p:blipFill>
        <p:spPr>
          <a:xfrm>
            <a:off x="539640" y="2060640"/>
            <a:ext cx="2522520" cy="18921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DSC00178"/>
          <p:cNvPicPr/>
          <p:nvPr/>
        </p:nvPicPr>
        <p:blipFill>
          <a:blip r:embed="rId2"/>
          <a:stretch/>
        </p:blipFill>
        <p:spPr>
          <a:xfrm>
            <a:off x="3132000" y="2060640"/>
            <a:ext cx="2521080" cy="1873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DSC00175"/>
          <p:cNvPicPr/>
          <p:nvPr/>
        </p:nvPicPr>
        <p:blipFill>
          <a:blip r:embed="rId3"/>
          <a:stretch/>
        </p:blipFill>
        <p:spPr>
          <a:xfrm>
            <a:off x="539640" y="4149720"/>
            <a:ext cx="2521080" cy="1868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DSC00180"/>
          <p:cNvPicPr/>
          <p:nvPr/>
        </p:nvPicPr>
        <p:blipFill>
          <a:blip r:embed="rId4"/>
          <a:stretch/>
        </p:blipFill>
        <p:spPr>
          <a:xfrm>
            <a:off x="3132000" y="4149720"/>
            <a:ext cx="2521080" cy="1873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DSC00181"/>
          <p:cNvPicPr/>
          <p:nvPr/>
        </p:nvPicPr>
        <p:blipFill>
          <a:blip r:embed="rId5"/>
          <a:stretch/>
        </p:blipFill>
        <p:spPr>
          <a:xfrm>
            <a:off x="5724360" y="4149720"/>
            <a:ext cx="2737080" cy="1873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5724360" y="2060640"/>
            <a:ext cx="27352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476360" y="476280"/>
            <a:ext cx="54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CHIVO AHORA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2087640" cy="1657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808000" cy="4392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6372360" y="4941720"/>
            <a:ext cx="2192040" cy="16448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900000" y="3284640"/>
            <a:ext cx="2087640" cy="1657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6372360" y="1413000"/>
            <a:ext cx="2087280" cy="1662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6372360" y="3213000"/>
            <a:ext cx="2160360" cy="16606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900000" y="5013360"/>
            <a:ext cx="20876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664000" cy="1727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2160360" cy="13636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3276720" y="2924280"/>
            <a:ext cx="2158920" cy="1296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395280" y="2781360"/>
            <a:ext cx="2664000" cy="1733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395280" y="4581360"/>
            <a:ext cx="2664000" cy="1800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"/>
          <a:stretch/>
        </p:blipFill>
        <p:spPr>
          <a:xfrm>
            <a:off x="395280" y="907920"/>
            <a:ext cx="2664000" cy="1727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3276720" y="1628640"/>
            <a:ext cx="2158920" cy="1229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8"/>
          <a:stretch/>
        </p:blipFill>
        <p:spPr>
          <a:xfrm>
            <a:off x="5724360" y="981000"/>
            <a:ext cx="2664000" cy="1728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9"/>
          <a:stretch/>
        </p:blipFill>
        <p:spPr>
          <a:xfrm>
            <a:off x="5724360" y="4581360"/>
            <a:ext cx="2664000" cy="1872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0"/>
          <a:stretch/>
        </p:blipFill>
        <p:spPr>
          <a:xfrm>
            <a:off x="3276720" y="4292640"/>
            <a:ext cx="2158920" cy="12240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3276720" y="5589720"/>
            <a:ext cx="21589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2:35:36Z</dcterms:created>
  <dc:creator>User</dc:creator>
  <dc:description/>
  <dc:language>en-US</dc:language>
  <cp:lastModifiedBy>User</cp:lastModifiedBy>
  <dcterms:modified xsi:type="dcterms:W3CDTF">2008-12-02T03:38:30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